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20F7-10BD-4285-83CB-99CD5B6D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107A-413F-410D-8262-CB9FE16C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22EA-31E7-4472-A229-941B5515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7A7-E48B-4453-9F10-A50E89B3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C784-7186-48E8-B3CE-800CFE66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7F0A-4F71-492A-B7FF-DBDD5C7A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4173-34AF-4840-BDF0-BB1702ED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33E6-F772-4038-8589-D36CDC80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D506-219B-4F44-8463-CCEE0656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93F8-DB6A-4E42-9B77-6CF40FFB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C1F6-E15E-49A0-8B03-0152A12B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D74-153D-44EA-B317-FC2595D2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7DD3-E58A-474B-8333-2A219D6C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9A73-DA81-4842-B57B-BA6B94B1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86BF-6B51-42D7-AAE3-6034FFFC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15CA-ACA0-4EBF-8679-EDD76677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6C96-96F6-4F70-BFF3-EC3CF6A5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2BB6-8B3F-4EEB-A079-E3D91A5D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C67-559C-49D7-BB33-220DEC3B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DD83-ED88-45E2-8F09-2DEF37C5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A05-5BAB-4429-BC7E-7400CBCB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BD4-6243-47BD-BDD6-B592343B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8CF7-7988-46CA-B17C-5AD4DF5A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3C3-EC3A-43E5-AC3D-36E32ABE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23FC-C226-4DF9-A337-B0FD5C0A1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32E5-924B-49BF-B1EB-CF6488C0B1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C’est à toi! – Level 2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itre 9 – Deuxième Ét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t 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coup, 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 (rencontrer) un type bizarre dans la forê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rencontr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 ____________ (être) très méchant e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t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 (avoir) peu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d 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_____________ (arriver) chez ma grand-mèr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is arriv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9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le _________(être) un peu plus poilue que 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itu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t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dain, 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 (crier)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ère-grand, ce que vous avez de grandes de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cri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le _________ (avoir) 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énervé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d tout 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coup elle __________ (déchirer) sa robe e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échir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_____________(voir) qu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v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 (être) un grand méchant loup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t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ts qui indiquent le P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dain – sudde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t à coup – all of a sud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 moment où – just w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s 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f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(être) le type de la forê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t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fin, 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 (partir) en courant à toutes jamb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is par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ts qui indiquent l</a:t>
            </a:r>
            <a:r>
              <a:rPr b="1" lang="ja-JP" sz="4400" spc="-1" strike="noStrike">
                <a:solidFill>
                  <a:srgbClr val="ffffb7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mp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jours – al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itude – us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s les jours – all th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vent – of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temps en temps – from time to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chez-vous de votre partena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nez un tableau par personn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ersonne à gauche prend un feutre v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ersonne à droite prend un feutre rou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ersonne verte es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SSÉ COMPOS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ersonne rouge es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MPARFA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écidez si la phrase demande le passé composé (vert) ou 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rfait (roug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ule la personne avec cette couleur peut répond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, il ___________ (faire) très bea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s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rd, 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_ (décider) 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r chez ma grand-mè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décid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_____________ (vouloir) lui offrir un cadea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ul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is, 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_________ (commencer) ma rou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commenc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2-05-03T21:58:40Z</dcterms:modified>
  <cp:revision>76</cp:revision>
  <dc:subject/>
  <dc:title>Allez, viens! – Level 2</dc:title>
</cp:coreProperties>
</file>